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568-FE57-4EF9-9424-9731A940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DCA-8BE2-4A9F-AFB4-10BFF937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1F6-D565-44F1-9C64-7DE04A2F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F3C-DBB0-4F3A-923D-6F50BE07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6DE-7335-4E14-A3C9-BD21B0FE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3C7-D380-4A07-B182-08B364C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144-BF2E-4677-8DEF-87BD97F2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BE6-2539-453F-AF60-0B4A885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7AE-3732-4D1F-8FE9-BDE61E40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BC8-1057-4D7E-B767-0CFA17A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00F-F1C8-4BD0-B1E4-98EE3BE5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018-7751-407D-9EA9-45E2017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F1F6-8649-4FD4-AA12-33A01BC7810B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54320" y="142920"/>
            <a:ext cx="81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إنَّ ابنكِ... فوق ا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9520" y="5570640"/>
            <a:ext cx="64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سلَّمكِ سرَّاً 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65920" y="142920"/>
            <a:ext cx="594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صيَّركِ أمَّ ا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2760" y="5499000"/>
            <a:ext cx="79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يا أم الله... يا أم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6360" y="260280"/>
            <a:ext cx="255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302080"/>
            <a:ext cx="51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1080" y="44280"/>
            <a:ext cx="2554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9280" y="26028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445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أنشري النور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د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قل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كي نلقَ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755640"/>
            <a:ext cx="284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6687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755640"/>
            <a:ext cx="2842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عند الإله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3668760"/>
            <a:ext cx="331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11:20:11Z</dcterms:modified>
  <cp:revision>98</cp:revision>
  <dc:subject/>
  <dc:title>PowerPoint Presentation</dc:title>
</cp:coreProperties>
</file>